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B19-D23C-4FDE-A029-2742DB1641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E381-6EF4-47E7-825B-50A9FB29C2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ED5-17B4-4E48-8232-56478AC0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5FB-BCA8-49BF-8C50-DBEF6FF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AA032-07A0-4BB5-BEBA-D2461BB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DA6F2-ADED-4B08-842C-DD913348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6B8DA-A3FA-4A17-920B-CAAAC08F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59F70-DDE3-4BB9-941B-FDE9AABC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0420A-52EA-4C9D-B846-555E6859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C793A-02CA-4400-9259-E843D63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E7EC2-0334-4472-83C4-EBE5BFB4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1B4A8-7F88-4070-B60C-5EF1AD9F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684B-7D40-42AA-A433-97632583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7C248-A2B1-4D75-AFCB-F84AAB38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B26-E7F1-46EB-8F50-01466E58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7C27D-8A53-4E0C-9142-9BDD2359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0E328-6183-4DF8-832E-73F869CF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01673-E239-488F-B602-D593ED25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0B5E5-BF0F-48AF-9B28-4D4A89DF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0E992-2CDC-4D66-A04E-215EAC59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BFA60-3E49-43E2-BEDB-4303D702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427F9-527F-46D7-98A4-C85713C0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D46A4-82F0-4F4C-A176-50F312D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5750B-D3BE-4E44-A361-FB71D3CB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CA98E-85A4-4CC9-89B1-C7D9D7C0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78F-3832-4C1D-8BB7-1202D744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668C8-75C9-42FE-9445-69B2F4C4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19F16-AB37-4BFA-A5F8-CE0EC98A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DE056-4AE5-440B-A241-39390DA1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D19AA-522D-4126-9DA3-2832ECCF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588B6-9A0D-451B-B649-6E94F43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A8C74-6825-4ED6-9CF2-A321CECF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8E1EA-1A11-447B-84B1-D9BF60EB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63D98-1AE1-4E74-94BC-5E76718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03877-91AC-4513-9DCE-A84EBD97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38DE4-8CD0-42BB-AD8A-1231D298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8C6A-B65D-4D5A-8D53-22133224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BE073-F54A-4354-8B18-93A4A52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E35C9-0F80-45CF-A335-3DD2D61D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15C1B-F4DC-4F63-ADB5-69346232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5631D-5AB0-48E5-B069-99E62E34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9BCBC-F49F-41C3-A7B0-13BD724D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500E3-B2AF-48BB-89EC-D4265BB7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960D3-4A1A-4585-9CCF-BD80B9C1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2BC6E-425B-4AAD-8F79-49CB67C8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60516-D14B-4D01-ADCB-7FBA2883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93925-8B6B-46F4-93DF-EF6A3388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10A8-5051-4B3B-AB66-09FBD090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0D46A-9CCA-419D-B7E4-3260A56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EE91E-BFCC-4B3B-87C8-A613D47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C2FE9-F884-4274-AF5B-123EF867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0AC2B-76D9-4CD1-A38C-4A940016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68088-C060-45BF-BE16-A4046DE6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EB365-9450-43E8-8723-0A00B040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E7E2A-2096-461B-8ACB-809AD025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D2F1D-296A-44AB-A9E2-E79A70E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A6BE7-89B2-4C2C-80C5-DE213D5A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F8B0B-1B69-4BBB-B024-EB53CE9D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F94F-BFBD-422F-9427-C8D88408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4BF42-6F1C-4FED-9808-C62F081E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8CE63-84B8-4F91-9D1D-B06BAAC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2453B-C96D-4EB9-92D4-76547A3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01FBC-2002-4F0B-980F-A7AD1B8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3F2C1-6956-4501-9342-3CCF1E6C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1C146-A8EC-442C-8851-4DF10241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15552-2E78-4691-9CAF-23D3C7DE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18577-6628-445A-9588-FC2B59F1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2C40C-3C3D-4D07-997B-8E8DDB50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71876-B951-492B-BA16-48BF16B1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1216-76AF-4FD9-A436-D2786856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A0287-C7B1-4354-8D4D-0DFB3364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A0317-A726-48B1-AE9C-93D9D285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4026C-41E0-40F1-B9D2-8CC07B10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3BA44-431C-440B-AFF8-3AFDEDC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EAA98-DFC4-41DC-8D51-3DAC360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BCFDB-6C91-4450-A25D-B7B6B456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AC894-B1F1-445F-A725-682D421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AFC15-34F4-4488-B74F-20893191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3739E-7BAE-4C0F-B978-43769A1D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69AF9-1D1A-4A52-8209-B8799D3E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F1D1-1AFB-4E97-973B-E0DAB9AB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60CAB-BAE5-4B0B-BFFA-0A24313E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C80AE-5EA2-4145-9253-13BD1593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FD140-FAA3-499F-9160-4D112FD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08F97-379B-4F86-A989-99E72206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D2009-AE0C-41E3-AD88-F3E9D8F9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58E4C-2423-44FE-A079-9D46562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73B18-1F33-4C5C-AD51-782BD0F8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ACEE1-7032-4DBF-A105-D51086BC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E4C5A-B056-4FD1-8000-6C1C8299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E9DF6-3273-4F6A-A813-C07C0F0F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A5CC-1793-4563-9E46-82BBB3C0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784D9-3E75-4C3E-8E88-18F05959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51AFA-C04A-4DA7-A473-BE107499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5601B-D768-4635-B397-B627BB7F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5C6AD-4471-4DB0-AA03-CB41B7AC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A3109-5CD1-47CF-BCB3-4147528D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33C53-26EE-4772-928F-45F7534D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81DBB-4665-4523-9A6E-E8C0ABB5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B7950-7C83-4077-A1B9-19A4DEB9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87F04-3300-4454-870C-4E65C79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07E08-960A-4912-8631-B2020E5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DA88-59A9-4771-A609-0B97A100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183E0-4625-45CB-9CB8-7A45F025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E8A45-29DE-4CC2-B1D8-EECA6A6C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95704-FE0C-4C85-98B2-DEA42895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ECA2E-4AC4-498D-BC9D-9354F1EC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B4D08-62A3-4F7C-BC8D-3DA6C4F5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4B3F5-9F68-48C4-A369-34368181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55DC7-BC98-4B33-9FFC-850F164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BBF59-E6E8-4A38-9CD8-8689BE1E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1E773-F5C2-4ADF-AA53-5B5E2FE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162AE-2040-409F-8C17-D247EAA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BA7-C9DF-4CC8-91C3-27DCEB2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90F2-B72F-4F3B-BA5D-56386BC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7DDD2-C32B-4B9E-90BF-54485623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66D26-6C49-43E0-BAE6-6F53F3C0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38BBB-7F04-4738-8E4A-CD154C98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21F79-6414-41C4-8750-CC8FD98E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8F0D6-7A5F-4D0B-9E28-35BA9E91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9B3DF-ACF8-40D9-8502-4BC819E9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08E10-7DD3-40A7-B688-349701BC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82529-5026-443D-A875-C875209F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DEC9E-D7EE-4133-8FCF-E4B42719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2B7F3-8CD7-4AB9-AA6A-C1FCF265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619E-4B1B-4E49-A687-AD62B9E8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CEAF5-9CA6-462A-8B4D-41D12DEE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F49F2-A929-40B7-82B6-A4CA96F5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F48CE-9C9A-4D73-A789-A57C3B83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793C7-C93C-4FC5-AE24-BBC5955E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08BB6-E37E-4ECE-99F5-AE7292DD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A4931-ED60-4F4F-B2B2-726C9731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2BF6A-F719-4FF2-8F2F-0B35490C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5CC43-46AF-4EBD-A8B6-BBA08F12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BAD96-0033-44AF-9AC9-F9F9B1E4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9F2CA-3D78-41D3-88EC-595E6B8D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FB13-B24E-400C-AA91-2BCC3AEC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21DAA-9F78-4062-BC71-720D22A5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C419B-6317-43BB-96AF-1AF9CCF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0C328-C24C-40E5-8BE6-C2C43110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D8955-52F5-4974-931E-BAE05FE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5313B-1DCC-4C48-8319-97A3FF7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7C5A1-901C-4654-AAEB-1E89606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14CC5-7D00-4CC1-8C4B-C5DE5C5C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4C995-F39E-43B5-96C8-763BD328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507C0-87AD-47F5-8133-A1E32ED8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77CDE-F5E0-495E-B9C8-C32184EA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2B80-4EC2-4891-BCC3-4BA1C4E3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12955-FCFC-42CD-B026-8CBFEF9C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14596-0D8E-4549-8137-9BC8127E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C7AAC-B4CC-4EB0-89A1-D83C1B1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D9879-77DD-4096-90A2-351CA9D4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69610-9790-4EEB-81F2-09019FCC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E170A-AD26-4CD4-BA7B-B45B032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31499-59F0-4A13-85C1-A4DE0928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25741-3434-4861-A383-4CDD8DE2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0D16C-4C31-47E6-A259-E5AA584D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416E9-B26A-42D3-AAC4-5EEA246A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5360-417E-417D-B1CA-E9ABF021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FB1C30-ABF3-48D6-9044-A5183C67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75830-86FA-43D0-8937-7B7B9B90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C4662-A6DE-4AD5-8D90-C147ECD0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9473A9-8741-4681-B49F-3504875F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597D1-CA24-4495-AF2B-E6709F1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3FCB3-9F78-45E3-9EDD-ABB88ED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099C12-2910-4601-9D40-17B01AA3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9B434-5D77-4406-B1FE-3BDEDDDD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AD531-5310-45BF-A886-249EC5A1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9647B7-8723-4025-9290-C0D2B4E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DA06-EB71-4FF6-A03D-A459228A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4A596-5F85-4607-BEC3-90A0CAA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ECF8F5-617C-4F73-B942-C43D4062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EF6B2C-9F2C-421B-8605-ACB0CE52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CFFF93-370C-4E92-95BE-F91E6BDA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DC01C5-9D68-46DB-B7F9-9D54B0EE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94CDB-3C54-48C4-94D9-ED207F6A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9E6344-0172-412E-BFCB-033515A6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14D954-5443-49B8-B748-5479CD8F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4B3D97-9969-4C4D-B675-E7D624C9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E0E249-F80F-4B16-82C3-D007634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FEA0-C731-4BF7-AFB7-5D77950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6A7A0-2121-4655-866F-D658F43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143E97-A207-4725-A930-1FA37783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6176B9-BEAC-4E0E-BB0A-E4A1CF74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04B96F-F78E-462E-A885-9217DDFD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B93E24-EBCE-4254-8ADB-E4127FCE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5EF314-4DD8-44B0-890E-248B7D7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517D80-65EA-4511-9549-1BB75F2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94F3BF-9C0A-4E36-87FF-FBCC7BBD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FE7466-05F0-4A43-8E20-F7F68470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896D5-6191-4024-96F0-92286831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1E14-C96C-4738-9E29-5E23C400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D280B4-5473-4BC6-B781-32D0043B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9C5ED-AB6D-4233-8164-87496F69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299BCD-F9F8-43EF-A8CB-4B62E818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31A21D-9A53-41B5-AC24-1B4BE9AD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D5FB8F-98FA-41FF-A1E0-911579FE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1351FD-E63D-4022-8C32-4007B036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396F4-784B-4B27-BBA2-52BA5134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F7CC-6167-45B3-8F3B-8F88FFCA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79D3-122E-45E4-B854-626FF541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90E-E8BE-4EF4-86DD-269F46C8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85BB-A9B5-427B-8215-37E7CD02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ED21-CC3E-4338-9C79-1D5A969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C760-DD09-4F4E-A52E-51C175E9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B984-8F5B-4242-95B3-30E0BFD5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5824-C181-4A6C-A962-F9720090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DAD1-C5AF-45E1-A5D8-E5E0BFE7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3FF7-939E-4E8C-8F0F-1E98A5ED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780F-7C3D-4F83-97C1-CA44DC00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8CE80-111E-4D7D-A3FC-56041CD8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B6AA-9E3A-40BB-B1B6-9EEBFCC0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AE8-7A6D-4958-BB63-56A070ED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BA9A-9188-489B-B79E-1BBEE174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0F3E2-7D21-41C2-BB80-40778A47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E31C-F690-4418-8E1B-7A50D4F7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8DBD-7C10-47F7-8E69-6DA78DA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A785-C6C2-4943-8979-62128FC7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180BE-7025-45B2-832F-E8780911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E5CE-7401-45E8-AFE4-CF24CBA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F4D61-F27B-4FEC-889C-22C615C7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7466-6BC3-40D2-8E03-2B36177E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EB2D4-D056-4D51-8703-EE12D08B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E69-DDD2-4A4F-83DB-87B22DCB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7237-3885-41A3-9B6C-9D811102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323F0-1C9D-4B9C-9ACF-8CA5E63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450C-D194-41C2-ABC4-21781C25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9D05-7907-41FB-B66C-28D16060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BB8F5-177E-4464-BEA8-5CF8541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5F92-5C16-42A2-B250-3256A72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9D7C6-E620-4705-AAB5-19B2F00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B2ADA-BDBE-4D5D-85FB-70A2105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9FC9-9EFE-4EB8-9791-D1AF6F5E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C4735-C956-4692-ACA0-58D3F6A5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B17-82D7-4D42-BD29-BAD94796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684C-1567-4311-ADBD-6F4B655B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BD42-CBE1-4B9D-BAD1-9882898E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0922-E0C2-497C-B715-C3C53268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48D0-C3CC-4F82-8E7E-AE055C35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13BA5-2FC6-4B6A-BC24-E867437E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FCD51-B1FD-4214-B07B-AFC4441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47FFF-A63D-4F5D-9325-C1A71BF3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F574-814F-4DC8-B2DC-7FFF978A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F2875-0739-4E69-BCC2-6D12DB9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BCA64-4ECE-4681-A610-1C96D8C7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A89-925F-403F-9301-6BE4D881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43F85-87B8-425C-BF2C-D68973C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7194-E71E-4468-8824-0B93DEB8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2DF9-061E-4C5B-8425-8735026A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9B96A-F3DB-4559-8D6E-23CD04C6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5D3A6-705C-454F-962E-850CE98D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2B7B-4529-4B85-8CF2-7C9F86CC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A9DE1-DBA5-4034-9FD9-AFE76713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57371-EC8E-4549-A3E4-8063CCC2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FBA23-05A9-4E99-8F95-798D77C6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E1C22-91CB-439E-AE2D-7D60860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ABD-083D-4C99-8A6B-38F130E3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A427D-6837-4F34-AE28-D857C04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69E70-39CD-4880-8D5D-EF6B53B4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04E2A-4FE6-41A4-A29C-2CA0808A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E4CA-2AA5-48E9-8C82-16524F33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3A39B-D8F6-4F26-8257-B9101048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6B714-D89E-4230-951E-A862C501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A5BD7-1849-4A20-9725-40DA2A07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3D0FF-55D4-4652-BD1D-09C471D1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51F9-DC66-40CC-B964-95BA2CA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B5EB9-8338-4CE4-B3DE-A8EBA803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7DA-34DB-4BB4-82FA-6E9AFFC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CF696-F3AA-4B25-A9B3-1E2106EA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79A5-CE76-42E6-9AD7-99C3FF8D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7CF1-98DF-413C-A75F-17B9247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B5DF-1D7C-4FC3-8177-32B4DC4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69D82-D808-4847-B8E9-7862E1B4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D671C-A4B8-4641-8381-725A5F69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B788A-9E02-4D1B-8A86-17EF4A34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AA5C3-C930-4F5B-AC01-D1032922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F823E-7D04-4708-B0C7-A924AEE1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6A2A7-33C7-45B5-9A2D-0EFFDD0D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BD9056E1-2A4D-488D-85EA-F9B67A6A0A9A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6" descr=""/>
          <p:cNvPicPr/>
          <p:nvPr/>
        </p:nvPicPr>
        <p:blipFill>
          <a:blip r:embed="rId3"/>
          <a:stretch/>
        </p:blipFill>
        <p:spPr>
          <a:xfrm>
            <a:off x="-700200" y="-460440"/>
            <a:ext cx="3386160" cy="3240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B3186271-67C0-4024-981D-BF4397A3960B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图片 6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6192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CBB5A43A-67C5-474E-BC12-45F635D8EB46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6"/>
          <p:cNvSpPr/>
          <p:nvPr/>
        </p:nvSpPr>
        <p:spPr>
          <a:xfrm>
            <a:off x="371880" y="5646600"/>
            <a:ext cx="42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文本框 7"/>
          <p:cNvSpPr/>
          <p:nvPr/>
        </p:nvSpPr>
        <p:spPr>
          <a:xfrm>
            <a:off x="368640" y="5154480"/>
            <a:ext cx="39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文本框 8"/>
          <p:cNvSpPr/>
          <p:nvPr/>
        </p:nvSpPr>
        <p:spPr>
          <a:xfrm>
            <a:off x="364320" y="4606920"/>
            <a:ext cx="40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文本框 9"/>
          <p:cNvSpPr/>
          <p:nvPr/>
        </p:nvSpPr>
        <p:spPr>
          <a:xfrm>
            <a:off x="380160" y="4044960"/>
            <a:ext cx="40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图片 6" descr=""/>
          <p:cNvPicPr/>
          <p:nvPr/>
        </p:nvPicPr>
        <p:blipFill>
          <a:blip r:embed="rId3"/>
          <a:stretch/>
        </p:blipFill>
        <p:spPr>
          <a:xfrm>
            <a:off x="3489480" y="2658960"/>
            <a:ext cx="2165040" cy="16192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ABC6371B-30BF-411E-8659-2A27EEE5C9AB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237139A6-EE63-4741-B193-DD6696600754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6" descr=""/>
          <p:cNvPicPr/>
          <p:nvPr/>
        </p:nvPicPr>
        <p:blipFill>
          <a:blip r:embed="rId3"/>
          <a:stretch/>
        </p:blipFill>
        <p:spPr>
          <a:xfrm rot="21000000">
            <a:off x="6208560" y="5915160"/>
            <a:ext cx="3021120" cy="90000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" descr=""/>
          <p:cNvPicPr/>
          <p:nvPr/>
        </p:nvPicPr>
        <p:blipFill>
          <a:blip r:embed="rId4"/>
          <a:stretch/>
        </p:blipFill>
        <p:spPr>
          <a:xfrm rot="1080000">
            <a:off x="274320" y="4489560"/>
            <a:ext cx="2452680" cy="234000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8" descr=""/>
          <p:cNvPicPr/>
          <p:nvPr/>
        </p:nvPicPr>
        <p:blipFill>
          <a:blip r:embed="rId5"/>
          <a:stretch/>
        </p:blipFill>
        <p:spPr>
          <a:xfrm rot="1920000">
            <a:off x="7075440" y="-115560"/>
            <a:ext cx="2373480" cy="19796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9" descr=""/>
          <p:cNvPicPr/>
          <p:nvPr/>
        </p:nvPicPr>
        <p:blipFill>
          <a:blip r:embed="rId6"/>
          <a:stretch/>
        </p:blipFill>
        <p:spPr>
          <a:xfrm rot="20340000">
            <a:off x="-225360" y="-52560"/>
            <a:ext cx="1708200" cy="216072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E3B0-5B03-4245-B6A2-430523DA03CB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6" descr=""/>
          <p:cNvPicPr/>
          <p:nvPr/>
        </p:nvPicPr>
        <p:blipFill>
          <a:blip r:embed="rId3"/>
          <a:stretch/>
        </p:blipFill>
        <p:spPr>
          <a:xfrm rot="21000000">
            <a:off x="6208560" y="5915160"/>
            <a:ext cx="3021120" cy="900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1C384722-E1C5-49A2-BC71-3DC774BF8D69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图片 7" descr=""/>
          <p:cNvPicPr/>
          <p:nvPr/>
        </p:nvPicPr>
        <p:blipFill>
          <a:blip r:embed="rId3"/>
          <a:stretch/>
        </p:blipFill>
        <p:spPr>
          <a:xfrm rot="1080000">
            <a:off x="274320" y="4489560"/>
            <a:ext cx="2452680" cy="234000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2E1958A0-154A-481A-A5CB-A5184A7AC16B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8" descr=""/>
          <p:cNvPicPr/>
          <p:nvPr/>
        </p:nvPicPr>
        <p:blipFill>
          <a:blip r:embed="rId3"/>
          <a:stretch/>
        </p:blipFill>
        <p:spPr>
          <a:xfrm rot="1920000">
            <a:off x="7075440" y="-115560"/>
            <a:ext cx="2373480" cy="19796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EB104189-A9A4-44F4-B923-3C27E9A68ED7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9" descr=""/>
          <p:cNvPicPr/>
          <p:nvPr/>
        </p:nvPicPr>
        <p:blipFill>
          <a:blip r:embed="rId3"/>
          <a:stretch/>
        </p:blipFill>
        <p:spPr>
          <a:xfrm rot="20340000">
            <a:off x="-225360" y="-52560"/>
            <a:ext cx="1708200" cy="216072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418EC1D9-EBE8-44C6-9BC9-C6DF7AE79583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6" descr=""/>
          <p:cNvPicPr/>
          <p:nvPr/>
        </p:nvPicPr>
        <p:blipFill>
          <a:blip r:embed="rId3"/>
          <a:stretch/>
        </p:blipFill>
        <p:spPr>
          <a:xfrm>
            <a:off x="-290520" y="4500720"/>
            <a:ext cx="2568600" cy="324000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330EDDA0-E5D7-41F6-A258-D8FAFBFF314C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F918B814-0993-4B75-AC3C-1413B7FFBFFE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6" descr=""/>
          <p:cNvPicPr/>
          <p:nvPr/>
        </p:nvPicPr>
        <p:blipFill>
          <a:blip r:embed="rId3"/>
          <a:stretch/>
        </p:blipFill>
        <p:spPr>
          <a:xfrm>
            <a:off x="6594480" y="4525920"/>
            <a:ext cx="3227400" cy="324000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68C1D3B3-A37D-48E5-BEED-A3BA8C271E64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图片 6" descr=""/>
          <p:cNvPicPr/>
          <p:nvPr/>
        </p:nvPicPr>
        <p:blipFill>
          <a:blip r:embed="rId3"/>
          <a:stretch/>
        </p:blipFill>
        <p:spPr>
          <a:xfrm>
            <a:off x="-712800" y="-471600"/>
            <a:ext cx="3386160" cy="324036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4047E689-EFC8-4A4F-B2EB-27CC735B7813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图片 6" descr=""/>
          <p:cNvPicPr/>
          <p:nvPr/>
        </p:nvPicPr>
        <p:blipFill>
          <a:blip r:embed="rId3"/>
          <a:stretch/>
        </p:blipFill>
        <p:spPr>
          <a:xfrm>
            <a:off x="7362720" y="57240"/>
            <a:ext cx="1714680" cy="161928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AD11B9EA-B5C5-4497-A26D-FAC791FC898E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文本框 6"/>
          <p:cNvSpPr/>
          <p:nvPr/>
        </p:nvSpPr>
        <p:spPr>
          <a:xfrm>
            <a:off x="371880" y="5646600"/>
            <a:ext cx="42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文本框 7"/>
          <p:cNvSpPr/>
          <p:nvPr/>
        </p:nvSpPr>
        <p:spPr>
          <a:xfrm>
            <a:off x="368640" y="5154480"/>
            <a:ext cx="39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文本框 8"/>
          <p:cNvSpPr/>
          <p:nvPr/>
        </p:nvSpPr>
        <p:spPr>
          <a:xfrm>
            <a:off x="364320" y="4606920"/>
            <a:ext cx="40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文本框 9"/>
          <p:cNvSpPr/>
          <p:nvPr/>
        </p:nvSpPr>
        <p:spPr>
          <a:xfrm>
            <a:off x="380160" y="4044960"/>
            <a:ext cx="40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图片 6" descr=""/>
          <p:cNvPicPr/>
          <p:nvPr/>
        </p:nvPicPr>
        <p:blipFill>
          <a:blip r:embed="rId3"/>
          <a:stretch/>
        </p:blipFill>
        <p:spPr>
          <a:xfrm>
            <a:off x="3489480" y="2495520"/>
            <a:ext cx="2165040" cy="1620720"/>
          </a:xfrm>
          <a:prstGeom prst="rect">
            <a:avLst/>
          </a:prstGeom>
          <a:ln w="0">
            <a:noFill/>
          </a:ln>
        </p:spPr>
      </p:pic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C81E711A-4103-4986-9CA7-D866CAAFA4F1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3"/>
          <a:stretch/>
        </p:blipFill>
        <p:spPr>
          <a:xfrm rot="21000000">
            <a:off x="6273360" y="5907240"/>
            <a:ext cx="3021120" cy="898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tretch/>
        </p:blipFill>
        <p:spPr>
          <a:xfrm rot="1081800">
            <a:off x="172800" y="4552560"/>
            <a:ext cx="2450880" cy="2340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"/>
          <p:cNvPicPr/>
          <p:nvPr/>
        </p:nvPicPr>
        <p:blipFill>
          <a:blip r:embed="rId5"/>
          <a:stretch/>
        </p:blipFill>
        <p:spPr>
          <a:xfrm rot="1917600">
            <a:off x="7127640" y="-137880"/>
            <a:ext cx="2360520" cy="1979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" descr=""/>
          <p:cNvPicPr/>
          <p:nvPr/>
        </p:nvPicPr>
        <p:blipFill>
          <a:blip r:embed="rId6"/>
          <a:stretch/>
        </p:blipFill>
        <p:spPr>
          <a:xfrm rot="20353800">
            <a:off x="-182160" y="-76320"/>
            <a:ext cx="1708200" cy="216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265F-2B91-49E8-AEE1-D14111BB98B4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6" descr=""/>
          <p:cNvPicPr/>
          <p:nvPr/>
        </p:nvPicPr>
        <p:blipFill>
          <a:blip r:embed="rId3"/>
          <a:stretch/>
        </p:blipFill>
        <p:spPr>
          <a:xfrm rot="21000000">
            <a:off x="6273360" y="5907240"/>
            <a:ext cx="3021120" cy="898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393A5631-99EF-46DB-B963-A4CBAA7752E6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 rot="1081800">
            <a:off x="172800" y="4552560"/>
            <a:ext cx="2450880" cy="2340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18278479-D1D4-42F1-846C-01393ABEFD95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8" descr=""/>
          <p:cNvPicPr/>
          <p:nvPr/>
        </p:nvPicPr>
        <p:blipFill>
          <a:blip r:embed="rId3"/>
          <a:stretch/>
        </p:blipFill>
        <p:spPr>
          <a:xfrm rot="1917600">
            <a:off x="7127640" y="-137880"/>
            <a:ext cx="2360520" cy="1979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F6004BA8-B135-4C7C-B10F-E28965490A6E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9" descr=""/>
          <p:cNvPicPr/>
          <p:nvPr/>
        </p:nvPicPr>
        <p:blipFill>
          <a:blip r:embed="rId3"/>
          <a:stretch/>
        </p:blipFill>
        <p:spPr>
          <a:xfrm rot="20353800">
            <a:off x="-182160" y="-76320"/>
            <a:ext cx="1708200" cy="2160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2BAE2AB5-A024-49BB-B072-2B0255D2524A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6" descr=""/>
          <p:cNvPicPr/>
          <p:nvPr/>
        </p:nvPicPr>
        <p:blipFill>
          <a:blip r:embed="rId3"/>
          <a:stretch/>
        </p:blipFill>
        <p:spPr>
          <a:xfrm>
            <a:off x="-291960" y="4565520"/>
            <a:ext cx="2568600" cy="32385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EE727D7C-9FA7-433E-AE26-D5B7DC29D267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" descr=""/>
          <p:cNvPicPr/>
          <p:nvPr/>
        </p:nvPicPr>
        <p:blipFill>
          <a:blip r:embed="rId3"/>
          <a:stretch/>
        </p:blipFill>
        <p:spPr>
          <a:xfrm>
            <a:off x="6622920" y="4525920"/>
            <a:ext cx="3227400" cy="3240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D0521AF9-23C0-4FAF-9DDC-BFDA869FD624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数学基础训练部分代表性题目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数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示例（一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/>
          </p:nvPr>
        </p:nvSpPr>
        <p:spPr>
          <a:xfrm>
            <a:off x="428760" y="254160"/>
            <a:ext cx="50004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，随机闭合开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中的两个，则能让两盏灯泡同时发光的概率为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3" name="文本占位符 7" descr=""/>
          <p:cNvPicPr/>
          <p:nvPr/>
        </p:nvPicPr>
        <p:blipFill>
          <a:blip r:embed="rId1"/>
          <a:stretch/>
        </p:blipFill>
        <p:spPr>
          <a:xfrm>
            <a:off x="5370480" y="3352680"/>
            <a:ext cx="3456000" cy="2872080"/>
          </a:xfrm>
          <a:prstGeom prst="rect">
            <a:avLst/>
          </a:prstGeom>
          <a:ln w="0">
            <a:noFill/>
          </a:ln>
        </p:spPr>
      </p:pic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767880" y="5632200"/>
            <a:ext cx="4660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/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title"/>
          </p:nvPr>
        </p:nvSpPr>
        <p:spPr>
          <a:xfrm>
            <a:off x="444600" y="6202080"/>
            <a:ext cx="83469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767880" y="5154120"/>
            <a:ext cx="4660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767880" y="4592160"/>
            <a:ext cx="4660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767880" y="4030200"/>
            <a:ext cx="4660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/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9" name="图片 16" descr=""/>
          <p:cNvPicPr/>
          <p:nvPr/>
        </p:nvPicPr>
        <p:blipFill>
          <a:blip r:embed="rId2"/>
          <a:stretch/>
        </p:blipFill>
        <p:spPr>
          <a:xfrm>
            <a:off x="4513320" y="184320"/>
            <a:ext cx="4630680" cy="3166920"/>
          </a:xfrm>
          <a:prstGeom prst="rect">
            <a:avLst/>
          </a:prstGeom>
          <a:ln w="0">
            <a:noFill/>
          </a:ln>
        </p:spPr>
      </p:pic>
      <p:sp>
        <p:nvSpPr>
          <p:cNvPr id="1100" name="文本框 17"/>
          <p:cNvSpPr/>
          <p:nvPr/>
        </p:nvSpPr>
        <p:spPr>
          <a:xfrm>
            <a:off x="5193360" y="12524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文本框 18"/>
          <p:cNvSpPr/>
          <p:nvPr/>
        </p:nvSpPr>
        <p:spPr>
          <a:xfrm>
            <a:off x="6756840" y="7920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文本框 19"/>
          <p:cNvSpPr/>
          <p:nvPr/>
        </p:nvSpPr>
        <p:spPr>
          <a:xfrm>
            <a:off x="6382440" y="1627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文本框 20"/>
          <p:cNvSpPr/>
          <p:nvPr/>
        </p:nvSpPr>
        <p:spPr>
          <a:xfrm>
            <a:off x="7169400" y="1693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文本框 21"/>
          <p:cNvSpPr/>
          <p:nvPr/>
        </p:nvSpPr>
        <p:spPr>
          <a:xfrm>
            <a:off x="8161560" y="19256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/>
          </p:nvPr>
        </p:nvSpPr>
        <p:spPr>
          <a:xfrm>
            <a:off x="428400" y="253800"/>
            <a:ext cx="8372520" cy="61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本示例已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技术数据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编辑总时间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3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本示例对应：数学手动输入题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抄题模板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编辑日期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14-10-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文本占位符 1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5126040" cy="604188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5429160" y="254160"/>
            <a:ext cx="3362400" cy="59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解一元二次方程常用的方法有公式法、配方法、因式分解法等。本例既可用公式法，也可以用配方法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本题选自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54/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编辑使用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min 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352440" y="266400"/>
            <a:ext cx="55036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，四边形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菱形，对角线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相交于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⊥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连接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求证：∠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∠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C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856120" y="3200400"/>
            <a:ext cx="29433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根据菱形的对角线互相平分可得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D=OB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再根据直角三角形斜边上的中线等于斜边的一半可得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H=OB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∠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HB= ∠OBH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∠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BH= ∠ODC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然后再根据等角的余角相等即可证明结论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23/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][11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菱形 8"/>
          <p:cNvSpPr/>
          <p:nvPr/>
        </p:nvSpPr>
        <p:spPr>
          <a:xfrm rot="20837400">
            <a:off x="5856120" y="952560"/>
            <a:ext cx="3197520" cy="1365120"/>
          </a:xfrm>
          <a:prstGeom prst="diamond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直接连接符 10"/>
          <p:cNvSpPr/>
          <p:nvPr/>
        </p:nvSpPr>
        <p:spPr>
          <a:xfrm>
            <a:off x="7304040" y="969840"/>
            <a:ext cx="300240" cy="13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直接连接符 12"/>
          <p:cNvSpPr/>
          <p:nvPr/>
        </p:nvSpPr>
        <p:spPr>
          <a:xfrm flipV="1">
            <a:off x="5894280" y="1284120"/>
            <a:ext cx="3121200" cy="70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直接连接符 14"/>
          <p:cNvSpPr/>
          <p:nvPr/>
        </p:nvSpPr>
        <p:spPr>
          <a:xfrm flipH="1">
            <a:off x="7005240" y="969840"/>
            <a:ext cx="29844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直接连接符 16"/>
          <p:cNvSpPr/>
          <p:nvPr/>
        </p:nvSpPr>
        <p:spPr>
          <a:xfrm flipH="1">
            <a:off x="7005600" y="1635120"/>
            <a:ext cx="450720" cy="554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文本框 18"/>
          <p:cNvSpPr/>
          <p:nvPr/>
        </p:nvSpPr>
        <p:spPr>
          <a:xfrm>
            <a:off x="5525280" y="1798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文本框 19"/>
          <p:cNvSpPr/>
          <p:nvPr/>
        </p:nvSpPr>
        <p:spPr>
          <a:xfrm>
            <a:off x="7457400" y="2301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文本框 20"/>
          <p:cNvSpPr/>
          <p:nvPr/>
        </p:nvSpPr>
        <p:spPr>
          <a:xfrm>
            <a:off x="8717400" y="72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文本框 21"/>
          <p:cNvSpPr/>
          <p:nvPr/>
        </p:nvSpPr>
        <p:spPr>
          <a:xfrm>
            <a:off x="7082280" y="45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文本框 22"/>
          <p:cNvSpPr/>
          <p:nvPr/>
        </p:nvSpPr>
        <p:spPr>
          <a:xfrm>
            <a:off x="7426440" y="116676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文本框 23"/>
          <p:cNvSpPr/>
          <p:nvPr/>
        </p:nvSpPr>
        <p:spPr>
          <a:xfrm>
            <a:off x="6729840" y="215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文本占位符 6" descr=""/>
          <p:cNvPicPr/>
          <p:nvPr/>
        </p:nvPicPr>
        <p:blipFill>
          <a:blip r:embed="rId1"/>
          <a:stretch/>
        </p:blipFill>
        <p:spPr>
          <a:xfrm>
            <a:off x="334800" y="158760"/>
            <a:ext cx="4907160" cy="60292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菱形 9"/>
          <p:cNvSpPr/>
          <p:nvPr/>
        </p:nvSpPr>
        <p:spPr>
          <a:xfrm rot="20837400">
            <a:off x="5481720" y="952560"/>
            <a:ext cx="3198600" cy="1365120"/>
          </a:xfrm>
          <a:prstGeom prst="diamond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直接连接符 10"/>
          <p:cNvSpPr/>
          <p:nvPr/>
        </p:nvSpPr>
        <p:spPr>
          <a:xfrm>
            <a:off x="6931080" y="969840"/>
            <a:ext cx="299880" cy="13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直接连接符 11"/>
          <p:cNvSpPr/>
          <p:nvPr/>
        </p:nvSpPr>
        <p:spPr>
          <a:xfrm flipV="1">
            <a:off x="5521320" y="1284120"/>
            <a:ext cx="3119400" cy="70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直接连接符 12"/>
          <p:cNvSpPr/>
          <p:nvPr/>
        </p:nvSpPr>
        <p:spPr>
          <a:xfrm flipH="1">
            <a:off x="6632280" y="969840"/>
            <a:ext cx="29844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直接连接符 13"/>
          <p:cNvSpPr/>
          <p:nvPr/>
        </p:nvSpPr>
        <p:spPr>
          <a:xfrm flipH="1">
            <a:off x="6632640" y="1635120"/>
            <a:ext cx="450720" cy="554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文本框 14"/>
          <p:cNvSpPr/>
          <p:nvPr/>
        </p:nvSpPr>
        <p:spPr>
          <a:xfrm>
            <a:off x="5152320" y="1798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文本框 15"/>
          <p:cNvSpPr/>
          <p:nvPr/>
        </p:nvSpPr>
        <p:spPr>
          <a:xfrm>
            <a:off x="7084440" y="2301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文本框 16"/>
          <p:cNvSpPr/>
          <p:nvPr/>
        </p:nvSpPr>
        <p:spPr>
          <a:xfrm>
            <a:off x="8344080" y="72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文本框 17"/>
          <p:cNvSpPr/>
          <p:nvPr/>
        </p:nvSpPr>
        <p:spPr>
          <a:xfrm>
            <a:off x="6709320" y="45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文本框 18"/>
          <p:cNvSpPr/>
          <p:nvPr/>
        </p:nvSpPr>
        <p:spPr>
          <a:xfrm>
            <a:off x="7053120" y="116676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文本框 19"/>
          <p:cNvSpPr/>
          <p:nvPr/>
        </p:nvSpPr>
        <p:spPr>
          <a:xfrm>
            <a:off x="6356880" y="215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454720" y="3093840"/>
            <a:ext cx="280656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8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358560" y="167760"/>
            <a:ext cx="552924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，已知四边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菱形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(0,4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(-3,0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则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坐标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888160" y="168120"/>
            <a:ext cx="28065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2/4][6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0" name="直接箭头连接符 10"/>
          <p:cNvCxnSpPr/>
          <p:nvPr/>
        </p:nvCxnSpPr>
        <p:spPr>
          <a:xfrm flipV="1">
            <a:off x="7700760" y="3814200"/>
            <a:ext cx="1080" cy="23706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21" name="直接箭头连接符 11"/>
          <p:cNvCxnSpPr/>
          <p:nvPr/>
        </p:nvCxnSpPr>
        <p:spPr>
          <a:xfrm flipV="1">
            <a:off x="6052680" y="4828320"/>
            <a:ext cx="273924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22" name="菱形 14"/>
          <p:cNvSpPr/>
          <p:nvPr/>
        </p:nvSpPr>
        <p:spPr>
          <a:xfrm rot="6580800">
            <a:off x="6406920" y="4606560"/>
            <a:ext cx="1927080" cy="708120"/>
          </a:xfrm>
          <a:prstGeom prst="diamond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文本框 15"/>
          <p:cNvSpPr/>
          <p:nvPr/>
        </p:nvSpPr>
        <p:spPr>
          <a:xfrm>
            <a:off x="7690680" y="3840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文本框 16"/>
          <p:cNvSpPr/>
          <p:nvPr/>
        </p:nvSpPr>
        <p:spPr>
          <a:xfrm>
            <a:off x="6755760" y="4367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文本框 17"/>
          <p:cNvSpPr/>
          <p:nvPr/>
        </p:nvSpPr>
        <p:spPr>
          <a:xfrm>
            <a:off x="6708960" y="585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文本框 18"/>
          <p:cNvSpPr/>
          <p:nvPr/>
        </p:nvSpPr>
        <p:spPr>
          <a:xfrm>
            <a:off x="7692120" y="489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文本框 19"/>
          <p:cNvSpPr/>
          <p:nvPr/>
        </p:nvSpPr>
        <p:spPr>
          <a:xfrm>
            <a:off x="7333200" y="3564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文本框 20"/>
          <p:cNvSpPr/>
          <p:nvPr/>
        </p:nvSpPr>
        <p:spPr>
          <a:xfrm>
            <a:off x="8517600" y="4829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文本框 21"/>
          <p:cNvSpPr/>
          <p:nvPr/>
        </p:nvSpPr>
        <p:spPr>
          <a:xfrm>
            <a:off x="7727040" y="4344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352440" y="266400"/>
            <a:ext cx="55036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画出如图所示几何体的三视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856120" y="3200400"/>
            <a:ext cx="29433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--][3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立方体 9"/>
          <p:cNvSpPr/>
          <p:nvPr/>
        </p:nvSpPr>
        <p:spPr>
          <a:xfrm>
            <a:off x="6478560" y="901800"/>
            <a:ext cx="862200" cy="8636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立方体 10"/>
          <p:cNvSpPr/>
          <p:nvPr/>
        </p:nvSpPr>
        <p:spPr>
          <a:xfrm>
            <a:off x="6478560" y="1542960"/>
            <a:ext cx="862200" cy="8636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立方体 11"/>
          <p:cNvSpPr/>
          <p:nvPr/>
        </p:nvSpPr>
        <p:spPr>
          <a:xfrm>
            <a:off x="7126200" y="1542960"/>
            <a:ext cx="863640" cy="8636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文本占位符 6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5200560" cy="602928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5338440" y="3474720"/>
            <a:ext cx="346068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76/6][7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等腰三角形 9"/>
          <p:cNvSpPr/>
          <p:nvPr/>
        </p:nvSpPr>
        <p:spPr>
          <a:xfrm>
            <a:off x="6040440" y="412920"/>
            <a:ext cx="2395440" cy="2214360"/>
          </a:xfrm>
          <a:prstGeom prst="triangle">
            <a:avLst>
              <a:gd name="adj" fmla="val 7578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直接连接符 11"/>
          <p:cNvSpPr/>
          <p:nvPr/>
        </p:nvSpPr>
        <p:spPr>
          <a:xfrm flipH="1">
            <a:off x="7264440" y="412920"/>
            <a:ext cx="590400" cy="221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文本框 13"/>
          <p:cNvSpPr/>
          <p:nvPr/>
        </p:nvSpPr>
        <p:spPr>
          <a:xfrm>
            <a:off x="7858080" y="36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文本框 14"/>
          <p:cNvSpPr/>
          <p:nvPr/>
        </p:nvSpPr>
        <p:spPr>
          <a:xfrm>
            <a:off x="5745960" y="2165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文本框 15"/>
          <p:cNvSpPr/>
          <p:nvPr/>
        </p:nvSpPr>
        <p:spPr>
          <a:xfrm>
            <a:off x="8438760" y="2165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文本框 16"/>
          <p:cNvSpPr/>
          <p:nvPr/>
        </p:nvSpPr>
        <p:spPr>
          <a:xfrm>
            <a:off x="708084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文本占位符 6" descr=""/>
          <p:cNvPicPr/>
          <p:nvPr/>
        </p:nvPicPr>
        <p:blipFill>
          <a:blip r:embed="rId1"/>
          <a:stretch/>
        </p:blipFill>
        <p:spPr>
          <a:xfrm>
            <a:off x="371520" y="274680"/>
            <a:ext cx="5743440" cy="2962080"/>
          </a:xfrm>
          <a:prstGeom prst="rect">
            <a:avLst/>
          </a:prstGeom>
          <a:ln w="0">
            <a:noFill/>
          </a:ln>
        </p:spPr>
      </p:pic>
      <p:pic>
        <p:nvPicPr>
          <p:cNvPr id="1046" name="文本占位符 7" descr=""/>
          <p:cNvPicPr/>
          <p:nvPr/>
        </p:nvPicPr>
        <p:blipFill>
          <a:blip r:embed="rId2"/>
          <a:stretch/>
        </p:blipFill>
        <p:spPr>
          <a:xfrm>
            <a:off x="371520" y="3333600"/>
            <a:ext cx="5743440" cy="290844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文本占位符 8"/>
          <p:cNvSpPr/>
          <p:nvPr/>
        </p:nvSpPr>
        <p:spPr>
          <a:xfrm>
            <a:off x="6186600" y="338040"/>
            <a:ext cx="26715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70/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][3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文本占位符 8"/>
          <p:cNvSpPr/>
          <p:nvPr/>
        </p:nvSpPr>
        <p:spPr>
          <a:xfrm>
            <a:off x="6186600" y="3468600"/>
            <a:ext cx="26715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72/7][3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352080" y="266400"/>
            <a:ext cx="498636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下各图放置的小正方形的边长都相同，分别以小正方形的顶点为顶点画三角形，则与图中△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相似的三角形图形为（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338440" y="3474720"/>
            <a:ext cx="346068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81/2][17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矩形 10"/>
          <p:cNvSpPr/>
          <p:nvPr/>
        </p:nvSpPr>
        <p:spPr>
          <a:xfrm>
            <a:off x="5773680" y="95580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矩形 11"/>
          <p:cNvSpPr/>
          <p:nvPr/>
        </p:nvSpPr>
        <p:spPr>
          <a:xfrm>
            <a:off x="6492960" y="95580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矩形 12"/>
          <p:cNvSpPr/>
          <p:nvPr/>
        </p:nvSpPr>
        <p:spPr>
          <a:xfrm>
            <a:off x="7215120" y="955800"/>
            <a:ext cx="7225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任意多边形 14"/>
          <p:cNvSpPr/>
          <p:nvPr/>
        </p:nvSpPr>
        <p:spPr>
          <a:xfrm>
            <a:off x="5824440" y="981000"/>
            <a:ext cx="2086200" cy="695520"/>
          </a:xfrm>
          <a:custGeom>
            <a:avLst/>
            <a:gdLst/>
            <a:ahLst/>
            <a:rect l="l" t="t" r="r" b="b"/>
            <a:pathLst>
              <a:path w="2086377" h="695458">
                <a:moveTo>
                  <a:pt x="0" y="695458"/>
                </a:moveTo>
                <a:lnTo>
                  <a:pt x="1390917" y="695458"/>
                </a:lnTo>
                <a:lnTo>
                  <a:pt x="2086377" y="0"/>
                </a:lnTo>
                <a:lnTo>
                  <a:pt x="0" y="69545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文本框 16"/>
          <p:cNvSpPr/>
          <p:nvPr/>
        </p:nvSpPr>
        <p:spPr>
          <a:xfrm>
            <a:off x="7939800" y="519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文本框 17"/>
          <p:cNvSpPr/>
          <p:nvPr/>
        </p:nvSpPr>
        <p:spPr>
          <a:xfrm>
            <a:off x="5403240" y="144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文本框 18"/>
          <p:cNvSpPr/>
          <p:nvPr/>
        </p:nvSpPr>
        <p:spPr>
          <a:xfrm>
            <a:off x="700452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矩形 19"/>
          <p:cNvSpPr/>
          <p:nvPr/>
        </p:nvSpPr>
        <p:spPr>
          <a:xfrm>
            <a:off x="692280" y="2602080"/>
            <a:ext cx="722160" cy="72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矩形 20"/>
          <p:cNvSpPr/>
          <p:nvPr/>
        </p:nvSpPr>
        <p:spPr>
          <a:xfrm>
            <a:off x="1413000" y="2602080"/>
            <a:ext cx="720720" cy="72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任意多边形 22"/>
          <p:cNvSpPr/>
          <p:nvPr/>
        </p:nvSpPr>
        <p:spPr>
          <a:xfrm>
            <a:off x="744480" y="2614680"/>
            <a:ext cx="1352520" cy="709560"/>
          </a:xfrm>
          <a:custGeom>
            <a:avLst/>
            <a:gdLst/>
            <a:ahLst/>
            <a:rect l="l" t="t" r="r" b="b"/>
            <a:pathLst>
              <a:path w="1352281" h="708337">
                <a:moveTo>
                  <a:pt x="0" y="708337"/>
                </a:moveTo>
                <a:lnTo>
                  <a:pt x="669700" y="708337"/>
                </a:lnTo>
                <a:lnTo>
                  <a:pt x="1352281" y="0"/>
                </a:lnTo>
                <a:lnTo>
                  <a:pt x="0" y="70833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文本框 23"/>
          <p:cNvSpPr/>
          <p:nvPr/>
        </p:nvSpPr>
        <p:spPr>
          <a:xfrm>
            <a:off x="2137680" y="2344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文本框 24"/>
          <p:cNvSpPr/>
          <p:nvPr/>
        </p:nvSpPr>
        <p:spPr>
          <a:xfrm>
            <a:off x="322200" y="3092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文本框 25"/>
          <p:cNvSpPr/>
          <p:nvPr/>
        </p:nvSpPr>
        <p:spPr>
          <a:xfrm>
            <a:off x="1248120" y="323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矩形 27"/>
          <p:cNvSpPr/>
          <p:nvPr/>
        </p:nvSpPr>
        <p:spPr>
          <a:xfrm>
            <a:off x="2630520" y="258912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矩形 28"/>
          <p:cNvSpPr/>
          <p:nvPr/>
        </p:nvSpPr>
        <p:spPr>
          <a:xfrm>
            <a:off x="3349800" y="258912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矩形 29"/>
          <p:cNvSpPr/>
          <p:nvPr/>
        </p:nvSpPr>
        <p:spPr>
          <a:xfrm>
            <a:off x="4071960" y="2589120"/>
            <a:ext cx="7221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任意多边形 30"/>
          <p:cNvSpPr/>
          <p:nvPr/>
        </p:nvSpPr>
        <p:spPr>
          <a:xfrm>
            <a:off x="2681280" y="2602080"/>
            <a:ext cx="2112840" cy="707760"/>
          </a:xfrm>
          <a:custGeom>
            <a:avLst/>
            <a:gdLst/>
            <a:ahLst/>
            <a:rect l="l" t="t" r="r" b="b"/>
            <a:pathLst>
              <a:path w="2112134" h="708337">
                <a:moveTo>
                  <a:pt x="0" y="708337"/>
                </a:moveTo>
                <a:lnTo>
                  <a:pt x="2112134" y="708337"/>
                </a:lnTo>
                <a:lnTo>
                  <a:pt x="1378039" y="0"/>
                </a:lnTo>
                <a:lnTo>
                  <a:pt x="0" y="70833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文本框 31"/>
          <p:cNvSpPr/>
          <p:nvPr/>
        </p:nvSpPr>
        <p:spPr>
          <a:xfrm>
            <a:off x="2283840" y="3144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文本框 32"/>
          <p:cNvSpPr/>
          <p:nvPr/>
        </p:nvSpPr>
        <p:spPr>
          <a:xfrm>
            <a:off x="4777200" y="307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文本框 33"/>
          <p:cNvSpPr/>
          <p:nvPr/>
        </p:nvSpPr>
        <p:spPr>
          <a:xfrm>
            <a:off x="3909240" y="216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矩形 46"/>
          <p:cNvSpPr/>
          <p:nvPr/>
        </p:nvSpPr>
        <p:spPr>
          <a:xfrm>
            <a:off x="639720" y="487188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矩形 47"/>
          <p:cNvSpPr/>
          <p:nvPr/>
        </p:nvSpPr>
        <p:spPr>
          <a:xfrm>
            <a:off x="1360440" y="487188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矩形 48"/>
          <p:cNvSpPr/>
          <p:nvPr/>
        </p:nvSpPr>
        <p:spPr>
          <a:xfrm>
            <a:off x="1360440" y="4148280"/>
            <a:ext cx="720720" cy="72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文本框 50"/>
          <p:cNvSpPr/>
          <p:nvPr/>
        </p:nvSpPr>
        <p:spPr>
          <a:xfrm>
            <a:off x="292320" y="5219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文本框 51"/>
          <p:cNvSpPr/>
          <p:nvPr/>
        </p:nvSpPr>
        <p:spPr>
          <a:xfrm>
            <a:off x="1497240" y="5176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任意多边形 52"/>
          <p:cNvSpPr/>
          <p:nvPr/>
        </p:nvSpPr>
        <p:spPr>
          <a:xfrm>
            <a:off x="636480" y="4172040"/>
            <a:ext cx="1416240" cy="1404720"/>
          </a:xfrm>
          <a:custGeom>
            <a:avLst/>
            <a:gdLst/>
            <a:ahLst/>
            <a:rect l="l" t="t" r="r" b="b"/>
            <a:pathLst>
              <a:path w="1416676" h="1403798">
                <a:moveTo>
                  <a:pt x="0" y="1403798"/>
                </a:moveTo>
                <a:lnTo>
                  <a:pt x="721217" y="1403798"/>
                </a:lnTo>
                <a:lnTo>
                  <a:pt x="1416676" y="0"/>
                </a:lnTo>
                <a:lnTo>
                  <a:pt x="0" y="14037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文本框 53"/>
          <p:cNvSpPr/>
          <p:nvPr/>
        </p:nvSpPr>
        <p:spPr>
          <a:xfrm>
            <a:off x="1953360" y="336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矩形 54"/>
          <p:cNvSpPr/>
          <p:nvPr/>
        </p:nvSpPr>
        <p:spPr>
          <a:xfrm>
            <a:off x="3357720" y="481644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矩形 55"/>
          <p:cNvSpPr/>
          <p:nvPr/>
        </p:nvSpPr>
        <p:spPr>
          <a:xfrm>
            <a:off x="4076640" y="481644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矩形 56"/>
          <p:cNvSpPr/>
          <p:nvPr/>
        </p:nvSpPr>
        <p:spPr>
          <a:xfrm>
            <a:off x="4076640" y="409248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文本框 57"/>
          <p:cNvSpPr/>
          <p:nvPr/>
        </p:nvSpPr>
        <p:spPr>
          <a:xfrm>
            <a:off x="4214160" y="512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任意多边形 58"/>
          <p:cNvSpPr/>
          <p:nvPr/>
        </p:nvSpPr>
        <p:spPr>
          <a:xfrm>
            <a:off x="2657520" y="4116240"/>
            <a:ext cx="2112840" cy="1417680"/>
          </a:xfrm>
          <a:custGeom>
            <a:avLst/>
            <a:gdLst/>
            <a:ahLst/>
            <a:rect l="l" t="t" r="r" b="b"/>
            <a:pathLst>
              <a:path w="2112135" h="1416677">
                <a:moveTo>
                  <a:pt x="0" y="1416677"/>
                </a:moveTo>
                <a:lnTo>
                  <a:pt x="1416676" y="1403798"/>
                </a:lnTo>
                <a:lnTo>
                  <a:pt x="2112135" y="0"/>
                </a:lnTo>
                <a:lnTo>
                  <a:pt x="0" y="141667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矩形 59"/>
          <p:cNvSpPr/>
          <p:nvPr/>
        </p:nvSpPr>
        <p:spPr>
          <a:xfrm>
            <a:off x="2627280" y="481644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文本框 60"/>
          <p:cNvSpPr/>
          <p:nvPr/>
        </p:nvSpPr>
        <p:spPr>
          <a:xfrm>
            <a:off x="4755600" y="389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文本框 61"/>
          <p:cNvSpPr/>
          <p:nvPr/>
        </p:nvSpPr>
        <p:spPr>
          <a:xfrm>
            <a:off x="2268000" y="523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文本框 62"/>
          <p:cNvSpPr/>
          <p:nvPr/>
        </p:nvSpPr>
        <p:spPr>
          <a:xfrm>
            <a:off x="1150920" y="3554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文本框 63"/>
          <p:cNvSpPr/>
          <p:nvPr/>
        </p:nvSpPr>
        <p:spPr>
          <a:xfrm>
            <a:off x="3517920" y="35402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文本框 64"/>
          <p:cNvSpPr/>
          <p:nvPr/>
        </p:nvSpPr>
        <p:spPr>
          <a:xfrm>
            <a:off x="1195560" y="56149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文本框 65"/>
          <p:cNvSpPr/>
          <p:nvPr/>
        </p:nvSpPr>
        <p:spPr>
          <a:xfrm>
            <a:off x="3559320" y="55404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3:00:23Z</dcterms:created>
  <dc:creator>李子龙</dc:creator>
  <dc:description/>
  <cp:keywords>数学;代数;平面几何;立体几何;函数;难题;比较</cp:keywords>
  <dc:language>en-US</dc:language>
  <cp:lastModifiedBy>李子龙</cp:lastModifiedBy>
  <dcterms:modified xsi:type="dcterms:W3CDTF">2014-10-19T04:51:05Z</dcterms:modified>
  <cp:revision>13</cp:revision>
  <dc:subject/>
  <dc:title>数学基础训练部分代表性题目</dc:title>
</cp:coreProperties>
</file>